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901-84B1-437D-9FDE-C4963461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C29-1E8A-455F-A00B-87BC435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93B-9EB2-4911-B05C-5FBE758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58A-0085-43F0-9E67-5E78BEA9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8A3-5761-43EE-9D3C-D45DFA14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06A-0885-4FBD-A436-942A7BE5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52D8-5F9C-49E9-809B-7D35239B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2316-1D38-49E4-B7F9-888324F0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4204-7753-406B-B857-6EAADEB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4ACA-3457-46C9-8E42-93D7544B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BB8-F8C4-4D32-8108-7F70560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D22-3CBD-45E9-826F-715D603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D10-14C2-418F-BC61-F208E8F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0896-2A56-4E12-9186-5A8BA40A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FFFF-C639-4C48-AEFB-2EF6B1A7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0D4C-8A0E-4258-ABCA-AAB6A0E4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ECA-A69C-446B-B715-C19037B6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C783-928E-4558-AB1A-F76324C3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2987-4871-4E2E-AFFE-1E19A72D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598A-0FB4-4790-AA2E-9A04B66E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D83D1-7E6E-489C-8290-78637A1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31A6-EDE2-489F-B169-0EA4689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4C6-4457-471B-AC55-73E5337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61F9-5B75-4517-B680-86AEBADE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A5DE-EECB-491D-A07E-B5BCB31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7DB2-0B0D-4A70-8171-D6E6DD96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6B75-741C-450A-934F-5515E86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E362-3316-4739-9720-F6E3DC36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7371-5F47-4B04-9778-A0B1EEBC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797E-1CA7-4583-8C87-F3604C41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37D-401A-4F28-9645-BC447EA9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029-0B92-4E6C-AEFC-837C1C3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F86-D961-4B95-AB7A-895491DE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3E5-93B6-45F6-AF6F-3F5A423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7C9-31F5-4B9B-A47A-8E5D920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BE0-2F45-4941-9A6A-2B6F8B46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D0A65B-699D-4F1C-9B4B-53E68698979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D76D6D-B80F-49CC-854E-2B1A8AD365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14461D-7009-4AA8-9E7A-5DB32BB7D8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Keystone,_South_Dakota" TargetMode="External"/><Relationship Id="rId3" Type="http://schemas.openxmlformats.org/officeDocument/2006/relationships/hyperlink" Target="http://en.wikipedia.org/wiki/South_Dakota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5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04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44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6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62320" y="2286000"/>
            <a:ext cx="4190760" cy="228564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 Rushm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Image:Mount Rushmore National Memorial.jpg"/>
          <p:cNvPicPr/>
          <p:nvPr/>
        </p:nvPicPr>
        <p:blipFill>
          <a:blip r:embed="rId1"/>
          <a:stretch/>
        </p:blipFill>
        <p:spPr>
          <a:xfrm>
            <a:off x="1219320" y="990720"/>
            <a:ext cx="6781320" cy="5086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066680" y="6172200"/>
            <a:ext cx="7238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unt Rushmore National Memor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ea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Keyst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outh Dak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org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81280" y="272880"/>
            <a:ext cx="5333760" cy="62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: February 22, 17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d: December 14, 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resident of U.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at Inauguration: 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d: 1789-179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erms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of Constitutional Conv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eutenant General and Commander in Chief of new United States Ar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eorge Washington"/>
          <p:cNvPicPr/>
          <p:nvPr/>
        </p:nvPicPr>
        <p:blipFill>
          <a:blip r:embed="rId1"/>
          <a:stretch/>
        </p:blipFill>
        <p:spPr>
          <a:xfrm>
            <a:off x="228600" y="1676520"/>
            <a:ext cx="3186360" cy="3809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914400" y="6477120"/>
            <a:ext cx="693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apples4theteacher.com/holidays/presidents-day/george-washington/fact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resident George Washington, Lansdowne portrait by Gilbert Stuart"/>
          <p:cNvPicPr/>
          <p:nvPr/>
        </p:nvPicPr>
        <p:blipFill>
          <a:blip r:embed="rId1"/>
          <a:stretch/>
        </p:blipFill>
        <p:spPr>
          <a:xfrm>
            <a:off x="380880" y="380880"/>
            <a:ext cx="3885840" cy="6001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http://kinardstudents.com/slaymaker/shared%20images/the-washington-monument.jpg"/>
          <p:cNvPicPr/>
          <p:nvPr/>
        </p:nvPicPr>
        <p:blipFill>
          <a:blip r:embed="rId2"/>
          <a:stretch/>
        </p:blipFill>
        <p:spPr>
          <a:xfrm>
            <a:off x="4419720" y="1752480"/>
            <a:ext cx="44848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oma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61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: April 13, 174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d: July 4, 18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number: 3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at Inauguration: 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d: 1801 - 180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erms: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ote the Declaration of 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or of Virgi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ster to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retary of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-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6477120"/>
            <a:ext cx="8229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apples4theteacher.com/holidays/presidents-day/thomas-jefferson/fac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easyquestion.net/thinkagain/wp-content/uploads/2007/12/thomas-jefferson-picture.jpg"/>
          <p:cNvPicPr/>
          <p:nvPr/>
        </p:nvPicPr>
        <p:blipFill>
          <a:blip r:embed="rId1"/>
          <a:stretch/>
        </p:blipFill>
        <p:spPr>
          <a:xfrm>
            <a:off x="380880" y="2209680"/>
            <a:ext cx="2612160" cy="25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http://upload.wikimedia.org/wikipedia/commons/2/2d/Jefferson_Memorial_(cropped).jpg"/>
          <p:cNvPicPr/>
          <p:nvPr/>
        </p:nvPicPr>
        <p:blipFill>
          <a:blip r:embed="rId1"/>
          <a:stretch/>
        </p:blipFill>
        <p:spPr>
          <a:xfrm>
            <a:off x="228600" y="1447920"/>
            <a:ext cx="6181200" cy="3866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www.visitingdc.com/images/thomas-jefferson-statue.jpg"/>
          <p:cNvPicPr/>
          <p:nvPr/>
        </p:nvPicPr>
        <p:blipFill>
          <a:blip r:embed="rId2"/>
          <a:stretch/>
        </p:blipFill>
        <p:spPr>
          <a:xfrm>
            <a:off x="4876920" y="762120"/>
            <a:ext cx="404712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87627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George Washington a famous per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tle 4"/>
          <p:cNvSpPr/>
          <p:nvPr/>
        </p:nvSpPr>
        <p:spPr>
          <a:xfrm>
            <a:off x="533520" y="38088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le 4"/>
          <p:cNvSpPr/>
          <p:nvPr/>
        </p:nvSpPr>
        <p:spPr>
          <a:xfrm>
            <a:off x="228600" y="4038480"/>
            <a:ext cx="876276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Thomas Jefferson a famous per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  <Words>146</Words>
  <Paragraphs>35</Paragraphs>
  <Company>CCP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08-25T11:50:09Z</dcterms:modified>
  <cp:revision>13</cp:revision>
  <dc:subject/>
  <dc:title>Famous People Frid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